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B782-CB6D-41C1-9926-8D03B5278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F9E6-7CAD-4691-BB82-1661FCF6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33C4-8BC2-4B7B-A42E-D99DAE02B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50F3-BF29-42ED-A250-BC1C36ED2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3335-FCA8-4852-A247-CA6CDCBD8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5706-F2D8-44FC-830C-5461533B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7180-5040-4D84-8333-76ADB7D4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4E9F-F477-4142-82F1-7A76DCF9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BBEF-086D-4317-A365-C5764BAB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9BA2-6017-4EC1-95E0-09C83E0C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E9B2-16F8-4A86-8E0D-48138608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8AD8-AECB-4E42-A72B-BCF660D5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E302-EE91-4CFD-8C08-57994044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1E91-6752-4367-A3AF-FEF27FA4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0D40-54E5-43F2-9082-E226B0DF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9521-2D5D-433D-8684-67B84640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8630-3D4B-476B-8847-74060A5A0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9E5F-AA75-4335-998E-0FC02660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85B6-0D60-4B99-B04D-C2C90E9F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1041-F7B8-4622-B46D-7B16304A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0B4F-D8E6-437E-A35C-E7A8C8A6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2FB6-3A80-4E54-9DFC-99B7D095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483D-421F-40F8-9F27-AC964BE2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EB1E-FA93-4140-8C8A-BAF7197D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0F83-1D54-4D27-9A7B-8A53C87DF8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2D7B-2239-437C-8EB6-47EA2245E2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СПЛАТИВОСТ ИНВЕСТИЦИОНИХ УЛАГАЊ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13" descr="memo grb copy"/>
          <p:cNvPicPr/>
          <p:nvPr/>
        </p:nvPicPr>
        <p:blipFill>
          <a:blip r:embed="rId4"/>
          <a:stretch/>
        </p:blipFill>
        <p:spPr>
          <a:xfrm>
            <a:off x="457200" y="0"/>
            <a:ext cx="80964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АПИ метод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API = The Machinery and Allied Product Institute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ључно питањ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Када треба заменити основно средство које је у употреби неким новим бољ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дгово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Треба минимизирати суму оперативне инфериорности постојећег средства у односу на трошкове које би изазвала нова инвестициј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АПИ метод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71900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а протоком времена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инфериорност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опреме у употреби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се стално повећав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у односу на неку бољу опрему која се тренутно могла набавити на тржиш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ва метода даје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одговор на питање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: да ли опрему А треба заменити опремом Б и да ли је то исплати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оже се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користит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приликом одлука о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аутоматизациј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унапређењу процес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АПИ метод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 основи метода је приступ да се приликом одлучивања о замени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занемарују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већ настали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инвестициони трошков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 први план се стављају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будући трошков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Због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брзих технолошких промен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опција замена опреме се разматра и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пре краја њиховог физиког века трајањ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АПИ метод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Важно питање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: шта је то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најбоље ново основно средство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које би се могло набавити на тржишт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ва приступ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514080">
              <a:spcBef>
                <a:spcPts val="700"/>
              </a:spcBef>
              <a:buClr>
                <a:srgbClr val="cc33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остојећа понуда на тржиш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514080">
              <a:spcBef>
                <a:spcPts val="700"/>
              </a:spcBef>
              <a:buClr>
                <a:srgbClr val="cc33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Будућа (очекивана) понуда на тржиш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Решење дилем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51408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од 2. важи само ако је значајно боље него под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АПИ метод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уштина методе је да се бира измеђ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Већих инвестиционих трошков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нижег степена несавршености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Нижих инвестиционих трошков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вишег степена несавршености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Циљ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је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минимизирати суму оперативне инфериорност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постојеће опреме и трошкова изазваних набавком нове опр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АПИ метод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а утврђивање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 оперативне инфериорност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потребно је утврдити </a:t>
            </a:r>
            <a:r>
              <a:rPr b="1" lang="sr-RS" sz="2400" spc="-1" strike="noStrike">
                <a:solidFill>
                  <a:srgbClr val="ff0000"/>
                </a:solidFill>
                <a:latin typeface="Arial"/>
              </a:rPr>
              <a:t>оперативне трошков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рошкови материј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рошкови одржа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иректни трошкови зар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Губици због застоја у ра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Алати и помоћни ал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Губици због шкарта на материја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рошкови интерног транспо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Губици у квалитету произ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азлике у приход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трошак погонске енерг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АПИ метод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иликом </a:t>
            </a: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прорачуна оперативне инфериорности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потребно је зна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овољно је узети само податке за наредну год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Међу трошковима нема ни амортизације ни камата које су елементи инвестиционих улага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Оперативна инфериорност старог строја добија се одузимањем оперативних предности старе опреме од од предности нове опр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АПИ метод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048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23T04:46:30Z</dcterms:modified>
  <cp:revision>156</cp:revision>
  <dc:subject/>
  <dc:title>Soft and Hard Skills Development: A Current Situation in Serbian Companies</dc:title>
</cp:coreProperties>
</file>